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DCD-59D8-4A08-9AF1-BF9AB5BD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71F-39CE-4092-95F2-28D119AD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06E-8050-4D5B-BC17-B131CFFF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B00-CC5C-4C35-A361-B095587C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8EB-4B96-433E-8B45-8D23AB7F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921-F9AE-4F9D-A27D-C12E8D6A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C91-0E94-4A62-87EF-DF92B915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017-DB67-4C75-BF36-DF071F07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215-948C-4D8C-8EC8-BCEFCE6C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81A-B45E-4130-9C2E-459232B6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A65-F0BF-4D00-B223-9B91D893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231-F902-46E4-B013-58CC12B8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7DE3-27AB-4F0A-BC96-F7630FDF4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38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upos Pequeñ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1:16Z</dcterms:modified>
  <cp:revision>3</cp:revision>
  <dc:subject/>
  <dc:title>Slide 1</dc:title>
</cp:coreProperties>
</file>