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EE4-85D5-468E-B5A0-F6E8915C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EEF-455A-4F56-BBCD-98922904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C5C-D873-4E17-AAB5-C53334CC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D16-2E25-4EEA-8DD6-630D489C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334-F721-4BAC-9965-21516650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C99-BA00-475F-BC3F-3AD42816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F05-3A05-45D9-B7D9-B3EC9B68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910-6CD0-4FBE-9B19-0247155B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E8D-4CDA-45E9-BCF3-075301F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C87-66CB-4B36-8C11-45B0A7A6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7D90-88DD-4C46-94E0-682C053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55E-A142-44BC-B224-506D38C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6BB9-4AB8-4063-B02E-00FDAB400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paración y Redacción de Informe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4:57Z</dcterms:modified>
  <cp:revision>5</cp:revision>
  <dc:subject/>
  <dc:title>Slide 1</dc:title>
</cp:coreProperties>
</file>